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432-2119-4D7B-8791-D82BEFF3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47E-EEBC-42D4-A183-D5811F01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54C-F3F2-4705-B061-467BEBA4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473-EBEC-4ADE-AE76-D810806A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1A1-6812-4D2B-8FEE-34263B97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D15-DC9A-431D-8744-EE00D7AD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4F7-E4F0-46B6-99B2-1A2ABBDB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273-288F-43DD-A8B7-B5FB64E8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5A6-8E21-4D3E-864A-9F4FBEB3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9F7-9721-49A7-8A20-FCC164F5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4BA-B38C-4899-844D-E862F522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B12-0A66-4EAC-B6F4-90BA211E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1FD5-9FC7-4B8D-B818-A31844604CBF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2120" y="2162160"/>
            <a:ext cx="76276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fice of 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rational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ay 5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746280" y="3124080"/>
            <a:ext cx="765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348240" y="5029200"/>
            <a:ext cx="199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Greg Eber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odd Hegl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oss Rock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li Tah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lam Tamb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stern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5073-CBE1-428E-A27F-C0913D364CAF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ys to Improv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a better understanding of student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efficiency differences amongst full-time, part-time and student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eak demand statistics and break down analysis into smaller time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992A-EEE6-430A-87C3-A57F5EF2A01D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http://z.about.com/d/manhattan/1/7/K/B/nyustern.jpg"/>
          <p:cNvPicPr/>
          <p:nvPr/>
        </p:nvPicPr>
        <p:blipFill>
          <a:blip r:embed="rId1"/>
          <a:stretch/>
        </p:blipFill>
        <p:spPr>
          <a:xfrm>
            <a:off x="1066680" y="2438280"/>
            <a:ext cx="3048120" cy="2895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://www.newsweek.com/media/25/71014_MoneyHappiness_vl-vertical.jpg"/>
          <p:cNvPicPr/>
          <p:nvPr/>
        </p:nvPicPr>
        <p:blipFill>
          <a:blip r:embed="rId2"/>
          <a:stretch/>
        </p:blipFill>
        <p:spPr>
          <a:xfrm>
            <a:off x="5181480" y="2438280"/>
            <a:ext cx="2857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 Snapsh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F2FD-F6EF-478B-AE83-7C529779629C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2"/>
          <p:cNvGraphicFramePr/>
          <p:nvPr/>
        </p:nvGraphicFramePr>
        <p:xfrm>
          <a:off x="0" y="1219320"/>
          <a:ext cx="9144000" cy="509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50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DDF1-A590-4ED2-BCAA-49F159E6BBB1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ject 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determine the current operating capacity of Office of Career Development (OCD) to address MBAs career development needs, we conducted a survey of OCD Career Counse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this data, we identified the staffing allocation that would best meet student needs while minimizing associa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A106-3C63-4794-B961-58ECAD7D382C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rvey of OCD Career Counsel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ach question below, except #1, was asked separately for FALL and SPRING semest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suming you are a career counselor, how many YEARS have you worked for the OCD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any HOURS per (a 5-day) week did you work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uch availability (HOURS) do you have per (a 5-day) week to meet with MBA1s and MBA2s, 1-on-1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any MBA1s and MBA2s did you meet with 1-on-1 per day (excluding open hour)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uch TIME (minutes) did you spend 1-on-1 with each student (excluding open hour)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any STUDENTS do you see 1-on-1 per week during open hou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uch TIME (minutes) do you spend with each student during open hou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any E-MAILS from MBA1s and MBA2s do you respond to per day (1 e-mail = 1 issue, resolved or not)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uch TIME (minutes) does it take to respond to/resolve each e-mail/issu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ject Assumpt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4 open hours/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10 hours/week/counselor for 1-on-1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20 hours/week/counselor communicating with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workers cannot meet with othe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alty attached to prevent this result ($1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Time workers cannot be fired/hired between Fall and Sp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time counselor: $36/hour (plus benef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-time counselor: $40/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workers: $24/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9B7C-89BF-49B1-91DC-3116ACD8C20F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lected Survey Resul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of students utilize OCD on a 1-on-1 basis in the following man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8A12-1963-4598-88D2-FA668E2475E1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604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216E-5997-4B2F-9317-70EA603A0335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ults of Analysis – Fall On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on-1 Meetings: All 1,198 minutes allocated to full time counse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s: All 927 minutes allocated to student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Hour Meetings: All 259 minutes allocated to part-tim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Requi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full-tim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art-tim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tudent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8612-22B6-4C6C-BFC1-DED203A5C9B9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ults of Analysis – Spring On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on-1 Meetings: All 839 minutes allocated to full-tim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s: 200 minutes allocated to full-time workers, 327 allocated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Hour Meetings: 159 minutes allocated to full-tim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Requi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full-tim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part-tim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tudent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and Demand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minimized cost is $2,497.70 dedicated to students based on the following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assumed a 99% likelihood of meeting demand and not wasting via excess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analyses of 50%, 75%, 90% and 95% were conduc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1FD3-E4FD-44D7-AD7E-DE77E1478C24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295280" y="5410080"/>
            <a:ext cx="6842160" cy="1268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53704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and Per Day Distribut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21:33:36Z</dcterms:created>
  <dc:creator>Todd Heglund</dc:creator>
  <dc:description/>
  <dc:language>en-US</dc:language>
  <cp:lastModifiedBy>Todd Heglund</cp:lastModifiedBy>
  <dcterms:modified xsi:type="dcterms:W3CDTF">2008-05-04T16:54:50Z</dcterms:modified>
  <cp:revision>26</cp:revision>
  <dc:subject/>
  <dc:title>Slide 1</dc:title>
</cp:coreProperties>
</file>